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</p:sldMasterIdLst>
  <p:sldIdLst>
    <p:sldId id="256" r:id="rId25"/>
    <p:sldId id="257" r:id="rId26"/>
    <p:sldId id="258" r:id="rId27"/>
    <p:sldId id="259" r:id="rId28"/>
    <p:sldId id="260" r:id="rId29"/>
    <p:sldId id="261" r:id="rId30"/>
    <p:sldId id="262" r:id="rId31"/>
    <p:sldId id="263" r:id="rId32"/>
    <p:sldId id="264" r:id="rId33"/>
    <p:sldId id="26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" Target="slides/slide1.xml"/><Relationship Id="rId26" Type="http://schemas.openxmlformats.org/officeDocument/2006/relationships/slide" Target="slides/slide2.xml"/><Relationship Id="rId27" Type="http://schemas.openxmlformats.org/officeDocument/2006/relationships/slide" Target="slides/slide3.xml"/><Relationship Id="rId28" Type="http://schemas.openxmlformats.org/officeDocument/2006/relationships/slide" Target="slides/slide4.xml"/><Relationship Id="rId29" Type="http://schemas.openxmlformats.org/officeDocument/2006/relationships/slide" Target="slides/slide5.xml"/><Relationship Id="rId30" Type="http://schemas.openxmlformats.org/officeDocument/2006/relationships/slide" Target="slides/slide6.xml"/><Relationship Id="rId31" Type="http://schemas.openxmlformats.org/officeDocument/2006/relationships/slide" Target="slides/slide7.xml"/><Relationship Id="rId32" Type="http://schemas.openxmlformats.org/officeDocument/2006/relationships/slide" Target="slides/slide8.xml"/><Relationship Id="rId33" Type="http://schemas.openxmlformats.org/officeDocument/2006/relationships/slide" Target="slides/slide9.xml"/><Relationship Id="rId34" Type="http://schemas.openxmlformats.org/officeDocument/2006/relationships/slide" Target="slides/slide10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A435F-455B-4578-B82A-6D0857AA5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37798-BEAE-4366-96C7-9B94C0A68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4C7C17-C98C-4297-A939-EDB789E76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DCA28D-2D94-4BC5-92FD-DA3190D03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C6ACD9-2CD3-4120-9469-AB83DA76B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E890D6-7A1A-43C3-9D65-E1EC47BB0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394FA4-E1BB-4053-A0FB-0D40CA12F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CB4BD3-0882-4B1D-AB43-1197FDDAD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C76B52-0B3E-4707-A243-1CFB1116C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AA834E-D2A8-4D28-BEF4-00A737475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07F49B-1FC0-4A51-A3D4-C97FC5BE1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905B53-4096-40CA-8DBA-2CB15B516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1B49D-3FCE-4F60-9B47-EE2C0B061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E0CE06-1FCE-4C10-8477-76E512E0D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14BC97-7313-46BA-9092-41CF5666E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D001F4-5D63-45DD-94D5-A41762A5A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D5228E-1038-4F70-BB6E-512316DDC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61F11F-736A-412F-B5D1-BC875B1DF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88C745-E66F-4D33-883B-D7F3379B0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98F6DD-52A5-4E1F-8CBC-41C1002FC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EAAE55-15C8-43CC-95C6-3F5E0EC5A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828E83-692B-41BE-972C-0FE135E3E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C88EFD-E332-4BB6-A2A6-830FF7FC8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B0185-A45F-48EA-A21F-2797C0C62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E17052-ADC7-4DE5-A05F-F357EC46C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A60675-9F4F-40BA-86A8-46A1952C1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5C4A74-646F-4DF6-A27D-D30A7A5DC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258946-7578-4D8D-9999-BF3220810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AF966D-AE5D-4930-B9B1-41EAAF5EC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69CAF5-FAF5-4C49-8C54-5A3AEE039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8093F9-396E-4904-A1E8-FD73E0854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8F24AE-B0DE-44A6-868B-90F13870E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D5C83A-3D47-439F-B43A-4577E3082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9814F1-EA87-4388-BC78-6584D5347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C2FB5-B6F9-4A60-9209-203E0ACC5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D46F1D-D885-4776-BB23-94FC51115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338863-E02F-4B82-A888-4EF0E7DEF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594481-1DB8-4420-8A70-2174EA304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A29E7A-7E29-479F-8466-941DE1F58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C4DA15-B96D-434F-8A78-6844745C6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17FF99-CF3E-421E-8ED7-106BF91CE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94A9BF-5553-4CAC-A72F-15FFE0999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4AF659-D108-42BB-87BC-4307B6F80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9C13A2-5CC1-4DA1-BE9C-8ADC87FDA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D5D17F-439C-4A75-80DE-3238A83EB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1EDAB-17F0-4E7E-8014-77357566D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36D663-127A-4A24-A9B3-1DDBAED39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4AFB6D-C843-4895-96E8-42255C610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EE1C7E-3966-497E-B12C-7304A90DE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5AC4C2-E478-4EEF-98C4-9B34D0C3A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FA72C7-CB4A-430C-BE6A-83CC9F5ED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0863B8C-EB89-4359-BB44-1371F74CC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7583E8A-A701-4B3B-87D4-83695367B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67FADA7-F8CB-482B-B40B-920B386C7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D2E951A-02EB-4374-A0FC-E3D8867FF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804C85D-92A7-42E1-A8A9-8507E9767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5788F-24CA-41B4-8125-66A184B05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A0B7E87-C524-4DE4-B355-504465EE1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ED33234-BF15-4B2B-BCEA-FC0C592A8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FCF368A-1228-4DF2-96C1-01A3AD94F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BE4EDAC-540A-4EAD-BB3B-280C4DADC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7DFAE98-454E-4A52-863E-8B6C12E7D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C2BBFF1-3E4D-4A5A-B0B9-48F7C627D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14E4279-38A2-43C8-A27C-46176F509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73A9970-BF19-4CAD-8C89-07CE02F40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CC544AF-7FCF-4A84-BDC8-36CF279EF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AA7912E-8A0B-487E-BBC8-47B1805B0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64666-F589-4AD7-AE14-BA7644198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E6891D7-EFFB-4BFD-9AC4-56070C748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91184B8-2A92-47C6-8787-7E64641DF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2DED1E7-4B25-4EC1-B090-BFF77AECC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4F94AF1-F9A1-402D-B78D-52A20FFDF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4DBBB22-21BE-4B77-9017-EF21C691F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440381C-5A83-40E8-8768-F79BDB0FD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4A35151-A1DA-4EB0-91AE-263F55426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7450CAD-15EF-46A8-AA6C-F3DCE69F2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8B622A6-4524-40DE-AA40-65BE83398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729ECD4-C201-4D2C-BAE1-6B2AE5F6F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1A318-3801-4D77-99CD-8A7A70074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BD1DBDF-44EB-4FDA-B2A8-E660B641B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C9F3494-41DB-4158-94A7-1021DBE22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77871D7-4DA9-4A6D-B06B-014A26B2D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7B6C377-50F9-4C91-9CE5-F7CFA8D2F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5EB94BB-C0C4-46F4-8831-86100BB90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D4C9D72-FCC5-4FE9-9B87-B3D6BF60F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390CC93-C852-4893-B601-D6C71622E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A475325-A849-467C-8893-43B6F777D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058A916-3A62-4242-BA8C-182006580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DBDA5A0-7D8C-497B-8240-1C1388062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1DC71-AA7A-4910-BD49-F1948043F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85C8075-6443-42D1-B8F1-796FC9C85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2B9AA91-FA61-4985-BCCA-DB763846D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3175F0F-24AA-451E-98F9-4C31586D7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C98B536-B203-46CC-9F2A-7206FBE98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CF89401-58EB-45DC-9126-571E37C2A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2115B6C-3481-4381-96AD-2F8E89868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0BF22F7-34C0-4FC7-BC3C-949CFDD45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FB4AAAB-9F54-4E73-BA17-F41BA817A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3FE85B5-5FF6-4944-BA79-7B055CD8A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39B4836-73B0-4314-9CCD-97EA8E0F2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679F6-C61E-4880-B999-EC8162DA1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5C1E887-4819-4FDC-A36A-7168D91F7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FD77533-3929-405D-8031-A4EFAF800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9C21A8D-5BDE-4837-889E-362FF0AFF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33B8711-B50F-4C4C-B43E-07FF0DBDA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BF9068B-F560-4252-983B-993B505B3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46ADA61-9A10-4892-9D54-21BA6F463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EF82234-A925-4DC1-8F77-4F720EDF7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EE94C92-3C74-47F2-8C9D-A2E5C6D99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1B2CC56-F27A-4150-B0C1-919BB41F4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847E0A3-9247-456F-A632-E967D68FF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9F061-00ED-4E64-8C54-1A231C076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4EE2A-FAEB-41CC-829D-AD1ED1031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2DAD249-9A90-4BF2-9934-176323A4D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01C8AF1-C2DD-4053-9725-6805AA064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2ED2E66-980A-48EC-9C3F-28496C0CB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28C5B9A-0292-4ACD-9354-2EBD54E41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904A198-0C68-4745-9A52-EE3BD63FE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9892CA1-A869-489F-9AD5-D00B9B51C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CDEF945-500C-4011-AA6A-A3C885166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F519AD3-78B3-413D-B9DD-66AEBF995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26EC12F-4469-4E8B-B22B-5923F13E7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BEF842E-2646-4563-A43B-65C8A7ACC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0D974-4A64-4B9D-B924-1B5694886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3A2F0B3-4356-4CD1-A0F7-A87658A40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36ED43B-DB29-4356-A1F3-2E0090A9E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DE193B7-4DA2-41D7-A067-958AEC476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671DE19-689C-46B9-A996-2387129E9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1AFE66C-3559-4CF6-B6B6-26AB1D7E0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69F9BC1-0181-45B0-A89C-0220B51D2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88770C2-4093-4002-80C3-2EA3D9DDC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518DD3D-B599-4057-9315-89C0707A7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930CE6E-BA8E-43D8-8950-0E869690E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68EA6CC-05C9-4806-B1F5-4403EBD2A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08F42-FA85-4CC0-B7FB-68265184C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E27B35F-D620-4679-8063-A7113DF2E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79E3C42-CE94-4882-B851-4AD0D929F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FAE3B61-D929-45BE-98E2-1FFA432DB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92B5D7D-013E-49BE-B51C-24AFAABEA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56E76B4-0466-4990-9BF0-83BF3EAF6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FDB8F5B-10A7-4E6E-AFB6-C55AC9D30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477D48B-1E91-452B-8A28-826471B36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BFC47E1-E792-4A7B-98B4-937C057A9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15797C7-FFEB-4EC8-AF47-A8896B082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7F8126F-D0A5-45D0-B3DE-CAAD84443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3239D-CCB6-424A-AB40-07BE43EF9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9467229-727F-41A5-AC9B-7E2E92BD0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4682570-62BE-41F2-937D-F1BB37DD0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DA7E243-885F-42DD-96E0-38039B60A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9332207-A6C0-4670-831E-06CD934EF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B156E1B-D3DD-4796-BDBF-7F41321F9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4DFDD3E-16A4-4AC3-B392-898996D57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F08BF19-D5C2-4987-9EF0-A7A4D6F1B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71E7804-1F36-4379-B8F9-BAA6894A9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62FB867-0F80-434D-AA67-F6F9F98AD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C73A728-CD59-47A4-B961-0932101A1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5BDF4-4420-47A1-AD25-076D32806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4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E0820BD-6339-4A5C-9F14-A9768A890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C7405EA-D228-414B-8830-F160B30DC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48F221D-CC7E-4F27-825D-443F0F9DC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102C286-A0C6-444C-9599-BDCEBDA49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2416D8F-1590-4BD5-9F93-831EEC7A0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6947AE6-A0A7-4E43-A1B6-A9D46DC7E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7030CE4-38DF-415B-9498-BC1A9442C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6370CD8-8D18-4985-B6CC-D044B2750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1C52463-091A-4A9D-A43E-9CB6ECEE3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AC9F8EC-0A6A-4F00-9391-9323833C4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2D4F43-14C9-4729-B3C1-A9D6C7E4E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8B34FF3-9B39-4299-A5DC-CF24434BD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429263F-1A19-4202-A829-DF02AFF5F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D761FAB-5C33-4635-A412-7304B409C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44BC773-FCD7-4D50-8E86-E17908027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572AA7B-4CFD-41AC-96CC-5F07412C1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7AF08F1-FFB4-47B8-8430-8B52A769C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2592062-B637-46C2-BF07-8289C3675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CF2E858-BA41-4482-987F-97F885839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F4ABB31-97D1-4104-8482-FB891B078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0734EA1-3BBF-4744-95F5-E59BE9EE5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4DB8D6-935C-42E8-AB2A-3998C11E5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46EB132-A6DC-40A8-899B-60C8FB71E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E77C690-18C8-42A7-9174-5B840223B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FD01707-A46E-4E1C-A381-639F68571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D720662-D9B5-4F9C-9423-9F17B37A9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2EA5DB3-AD25-4F73-ADE8-8C5858A85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2B2D3C0-4397-40DC-A80E-F924F7AF2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4A42B87-9D7D-4399-862A-B2DAC266C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497401D-6F35-45A1-87EF-675F054B6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8FA96AE-CFA6-47BE-8B26-114063F69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37D0212-2903-45A9-8A8F-E08B7A2A6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C235AF-4C1E-4546-8EEB-17334C0A4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0ED9C70-CB40-4DF7-8A9F-B7196AB2E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1FAFF93-D2F3-461C-83CE-D51761494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A20C4A9-C3FA-44DB-8D23-E26AB4E6F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29C47DB-A114-450F-8151-1B4E5A859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E5BC108-C025-4F0B-A7DA-9257ACE02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F8BC075-CB29-4A7E-8254-3C6AFA8E4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68D9B30-2AE9-443B-AFC8-03CBB6623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D2B399-FF0A-439F-AE66-255117C5A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F6404A-0E12-4C6C-92F1-EE4A5DF22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7634F-1AA5-44C0-AC5C-E108AFB8B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F1E0A0-58CA-4151-8FF0-792E275AA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FDB974-CF70-4E9B-9E5C-3A54E18A5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42309B-CCF6-41B7-A012-BD64A71A3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791B5A-0E4E-46FB-9ADD-4EF36C2A5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77F64F-8D03-45CE-BF19-053C50719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8E1562-6AF8-4227-93BA-78F135C33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5FE6F3-05B8-4431-B3E1-9616B5619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C9F32F-5F42-44B2-897B-764F599F3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925C07-D9CE-4D8E-A12F-4F0C8D482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7088C0-A323-4ED5-9D01-11AB6BC05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AAAB1-4D7A-4E3D-A98D-BA4685522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A65CD6-C2BD-4596-96F3-BA3E60BDF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1DB485-9A88-4167-9A20-3D92FEA1E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07226D-F260-44D7-B011-9D52DB559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222558-2C94-4C45-8BFD-0FA3ACF68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09D792-451D-42C3-A455-17E808E5F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E28196-AB49-4EEC-A031-DBD542743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6D6F12-8AED-4BE0-AF4D-A1C84BCC6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F3B5CB-34C4-4D99-BD97-696DACCE4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7FBDC9-C2BB-493C-BA36-C4A9C0080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8CE9A0-48B2-41A2-A385-714AB6378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2712D-3054-4605-B0C2-1BB290B7F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296C16-7487-4EC2-9B6B-B3F07977B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E906DA-9A77-4477-AA99-7E1BEB95C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3105FF-D5F3-4070-9784-D0A63C625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A1595A-4338-49B2-A177-9FAC41AB4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507927-659C-4F24-AD0D-061A3DD93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E094D6-EECC-4880-B7A8-4BD5F9A7A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7C4FBE-B0E0-4090-911C-24B97C143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18F216-927E-48E2-9421-D157973C7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8C7AF5-E252-4EE3-AA4F-BAF6A2166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E64CC7-3FFB-42E2-B5B1-1CA90C385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CEE6C-FE53-4573-8162-122E7A87D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41E9CA-737A-4B90-A4CE-FAF9C3CC5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B4DA12-1C6B-40FC-A559-495723519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0C3FA4-447E-423F-A9BE-4B0224C61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88B31D-239E-44D2-8DA7-8AC524567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96FB4A-175E-42EC-9017-CD3C57F6B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2A3EC1-8B90-45B0-9B61-C7DE9B530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F705C8-F1E4-4565-B0F8-A185D59DF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F9AB4E-7CBF-46FD-9CE5-A52A53048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53E16D-B1A8-4550-A107-348626DC8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2FAD7F-8005-4FB1-9D95-A639FC2A3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B9C42-3432-43B0-97E7-F590A935A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60B5FE-E252-4F7F-9D3C-9F73DC5FA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72A545-9181-46E3-8498-FE96D4FAC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D21166-747E-4D77-B204-D500326C4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EE2880-0260-4AE3-ADC5-81CF8E2D7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EC8BFA-B97F-42EE-B40A-F01A092B7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CE4AFA-4A74-46AA-BEEC-96C0C34B8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F4E064-6613-4A04-9CDD-966836332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6C1336-63B4-4FDF-AA9C-97334F136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E1A5DC-8235-46DF-B763-0BAB2E01C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58C288-64FA-43EA-B996-53136DDB4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B3803-7860-4746-8D1A-E59BD1C9F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2FAF62-4EC2-47EF-BD35-3C1736701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849773-C9EF-4BC0-B5E4-03A242486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1301AE-F85D-46F5-96AA-4DD0B9BF2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5A1494-6409-47B9-998E-83BA1D96C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227CBF-9E82-42A7-B507-02A39D8D6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17C752-4320-4272-B707-E5FB217C1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27EED4-1B78-4B7A-A7FF-59362B1B0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D5E551-A5AB-434B-993D-1F303CC69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B116AC-EBF4-4C7B-AEA5-3BDCEF00E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0569F8-CAEF-490A-9ED5-A5AF847EB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3F7F6-F03D-4BC3-AC98-3222D90A6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32ABAB-E969-476E-AED0-3BAF0C80B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BAC546-39B2-4170-AC97-0D63D1C9B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DE1805-6A3E-49D2-A873-329C13DF0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894307-DC52-4A19-B95E-CF48B0FC4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17D5DA-44E1-4874-B190-DB916558D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7E1FB6-D464-46FF-82B9-E52109DB8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513805-D914-4F54-86FA-38EBD4095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D0B669-D861-4FE1-8D44-243059EC4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E9FD07-BA85-47E1-9D4D-3DB4EDB90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E1B96C-C76A-4CD7-B402-79BB7075C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00815-8506-4046-B3CE-C0AD0721A85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725F7-DC08-4D03-BD0B-F9CB5A92115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CCE1E-43AE-462F-8452-63B36998D8F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452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3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454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7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458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1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3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474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475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476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5E42E-1674-4C1E-AD8A-D1B40B87187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AE116-86C3-43C8-8CC8-08E61B9FD2E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EFF30-A600-427A-A50B-1D6E71EBA22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862C8-94F9-49FE-A648-165DDE685B8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428E3-D148-419D-B1DD-B69AF475D96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4A6C4-9E0F-4EAB-B8C1-852E2CD7F80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4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F385C-D681-4D16-A896-8DAC7A90D43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DEDE8-383D-4E57-B997-5683BAC5E57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7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13F9F-0980-4EA7-B466-542E92255D2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0AF8D-8AC6-4ECB-AA82-FF5479CA545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1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92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93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94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95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96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7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98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99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01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702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7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708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A05A5-9CC9-4624-BAA7-821B6D5C534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7EA3E-4900-4DF0-8D2B-548A4DC5B89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3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754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755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0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761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757BB-2EB9-4C1E-902D-20159748014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059BA-DFB1-415B-9C7B-EF668D25F99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7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1B250-FB8D-4C53-A3EC-D19A45D2F9A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CC70A-1899-4560-80E9-0937BC2EC8B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1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852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853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4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5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6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7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8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859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9D9B8-EC18-4854-9B31-BB0439BA03F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3F2B8-3A34-4989-8FB9-FD5612B4625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DA4C8-8EBF-48B8-AC48-9651BB072A8F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5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DB27E-48F2-4AD8-A3C8-D3B768EFA31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8A531-92D1-474D-97FD-C9F13FAFDED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9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950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951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2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3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54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955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6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7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640BE-D9D2-4C18-98B3-3A7EFE954C5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4B032-880B-465C-9573-758C077A8F7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1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75F1F-1622-480B-9298-7E15AD15A88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13013-731E-4933-A1AC-487E5D80AAA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5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1046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1047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48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1049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0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51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1052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3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54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1055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1056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7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8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9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0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1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1062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3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4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 type="dt" idx="6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A4324-3F62-4CAF-B7DF-BF037CF2B97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 type="ftr" idx="6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 type="sldNum" idx="6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B64D7-DD3F-4886-8BAE-66E1CC070B3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0A443-32C6-4F27-B500-D1A724BCC43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93FB7-01D1-4A15-81D9-A12BED169B3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9B128-EE52-4E3F-A534-B2C754ECC00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68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F7365-724F-4D30-B50D-81B21D5EB68C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212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213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215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221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81BB6-BA56-4E2E-A9D3-D1099C57482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85200-04AB-4340-8B93-ED5F44C7D63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7B017-CE00-46CD-91D8-F5361E4CC5B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A131D-BB10-4BB2-8182-9507CDFC1A6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310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311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312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7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318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21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6700F-E3C3-4A55-AA32-095C3ECEDF8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23499-627A-486C-AE60-23765C9AB07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320B6-AE08-493D-A9C2-4939625F51C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63612-9AA9-4325-98AE-D107B71A9FE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image" Target="../media/image16.png"/><Relationship Id="rId8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image" Target="../media/image16.png"/><Relationship Id="rId8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6" name="图片 1" descr=""/>
          <p:cNvPicPr/>
          <p:nvPr/>
        </p:nvPicPr>
        <p:blipFill>
          <a:blip r:embed="rId1"/>
          <a:stretch/>
        </p:blipFill>
        <p:spPr>
          <a:xfrm>
            <a:off x="1798560" y="2936880"/>
            <a:ext cx="5267520" cy="98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8" name="图片 1" descr=""/>
          <p:cNvPicPr/>
          <p:nvPr/>
        </p:nvPicPr>
        <p:blipFill>
          <a:blip r:embed="rId1"/>
          <a:stretch/>
        </p:blipFill>
        <p:spPr>
          <a:xfrm>
            <a:off x="181080" y="307800"/>
            <a:ext cx="8781840" cy="6351840"/>
          </a:xfrm>
          <a:prstGeom prst="rect">
            <a:avLst/>
          </a:prstGeom>
          <a:ln w="0">
            <a:noFill/>
          </a:ln>
        </p:spPr>
      </p:pic>
      <p:pic>
        <p:nvPicPr>
          <p:cNvPr id="1129" name="Picture 1" descr=""/>
          <p:cNvPicPr/>
          <p:nvPr/>
        </p:nvPicPr>
        <p:blipFill>
          <a:blip r:embed="rId2"/>
          <a:stretch/>
        </p:blipFill>
        <p:spPr>
          <a:xfrm>
            <a:off x="1476360" y="836640"/>
            <a:ext cx="2303640" cy="407880"/>
          </a:xfrm>
          <a:prstGeom prst="rect">
            <a:avLst/>
          </a:prstGeom>
          <a:ln w="0">
            <a:noFill/>
          </a:ln>
        </p:spPr>
      </p:pic>
      <p:pic>
        <p:nvPicPr>
          <p:cNvPr id="1130" name="Picture 1" descr=""/>
          <p:cNvPicPr/>
          <p:nvPr/>
        </p:nvPicPr>
        <p:blipFill>
          <a:blip r:embed="rId3"/>
          <a:stretch/>
        </p:blipFill>
        <p:spPr>
          <a:xfrm>
            <a:off x="1433520" y="1384200"/>
            <a:ext cx="1366920" cy="408240"/>
          </a:xfrm>
          <a:prstGeom prst="rect">
            <a:avLst/>
          </a:prstGeom>
          <a:ln w="0">
            <a:noFill/>
          </a:ln>
        </p:spPr>
      </p:pic>
      <p:pic>
        <p:nvPicPr>
          <p:cNvPr id="1131" name="Picture 1" descr=""/>
          <p:cNvPicPr/>
          <p:nvPr/>
        </p:nvPicPr>
        <p:blipFill>
          <a:blip r:embed="rId4"/>
          <a:stretch/>
        </p:blipFill>
        <p:spPr>
          <a:xfrm>
            <a:off x="2124000" y="2449440"/>
            <a:ext cx="1366920" cy="408240"/>
          </a:xfrm>
          <a:prstGeom prst="rect">
            <a:avLst/>
          </a:prstGeom>
          <a:ln w="0">
            <a:noFill/>
          </a:ln>
        </p:spPr>
      </p:pic>
      <p:pic>
        <p:nvPicPr>
          <p:cNvPr id="1132" name="Picture 1" descr=""/>
          <p:cNvPicPr/>
          <p:nvPr/>
        </p:nvPicPr>
        <p:blipFill>
          <a:blip r:embed="rId5"/>
          <a:stretch/>
        </p:blipFill>
        <p:spPr>
          <a:xfrm>
            <a:off x="1835280" y="3529080"/>
            <a:ext cx="1366560" cy="407880"/>
          </a:xfrm>
          <a:prstGeom prst="rect">
            <a:avLst/>
          </a:prstGeom>
          <a:ln w="0">
            <a:noFill/>
          </a:ln>
        </p:spPr>
      </p:pic>
      <p:pic>
        <p:nvPicPr>
          <p:cNvPr id="1133" name="Picture 1" descr=""/>
          <p:cNvPicPr/>
          <p:nvPr/>
        </p:nvPicPr>
        <p:blipFill>
          <a:blip r:embed="rId6"/>
          <a:stretch/>
        </p:blipFill>
        <p:spPr>
          <a:xfrm>
            <a:off x="1619280" y="4624560"/>
            <a:ext cx="1366920" cy="407880"/>
          </a:xfrm>
          <a:prstGeom prst="rect">
            <a:avLst/>
          </a:prstGeom>
          <a:ln w="0">
            <a:noFill/>
          </a:ln>
        </p:spPr>
      </p:pic>
      <p:pic>
        <p:nvPicPr>
          <p:cNvPr id="1134" name="Picture 1" descr=""/>
          <p:cNvPicPr/>
          <p:nvPr/>
        </p:nvPicPr>
        <p:blipFill>
          <a:blip r:embed="rId7"/>
          <a:stretch/>
        </p:blipFill>
        <p:spPr>
          <a:xfrm>
            <a:off x="4067280" y="5719680"/>
            <a:ext cx="1800000" cy="4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6" dur="500"/>
                                        <p:tgtEl>
                                          <p:spTgt spid="1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1" dur="500"/>
                                        <p:tgtEl>
                                          <p:spTgt spid="1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6" dur="500"/>
                                        <p:tgtEl>
                                          <p:spTgt spid="1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1" dur="500"/>
                                        <p:tgtEl>
                                          <p:spTgt spid="1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6" dur="500"/>
                                        <p:tgtEl>
                                          <p:spTgt spid="1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1" dur="500"/>
                                        <p:tgtEl>
                                          <p:spTgt spid="1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7" name="图片 1" descr=""/>
          <p:cNvPicPr/>
          <p:nvPr/>
        </p:nvPicPr>
        <p:blipFill>
          <a:blip r:embed="rId1"/>
          <a:stretch/>
        </p:blipFill>
        <p:spPr>
          <a:xfrm>
            <a:off x="209520" y="849240"/>
            <a:ext cx="872496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8" name="图片 1" descr=""/>
          <p:cNvPicPr/>
          <p:nvPr/>
        </p:nvPicPr>
        <p:blipFill>
          <a:blip r:embed="rId1"/>
          <a:stretch/>
        </p:blipFill>
        <p:spPr>
          <a:xfrm>
            <a:off x="581040" y="817560"/>
            <a:ext cx="8075520" cy="586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9" name="图片 1" descr=""/>
          <p:cNvPicPr/>
          <p:nvPr/>
        </p:nvPicPr>
        <p:blipFill>
          <a:blip r:embed="rId1"/>
          <a:stretch/>
        </p:blipFill>
        <p:spPr>
          <a:xfrm>
            <a:off x="206280" y="851040"/>
            <a:ext cx="8732880" cy="589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0" name="图片 1" descr=""/>
          <p:cNvPicPr/>
          <p:nvPr/>
        </p:nvPicPr>
        <p:blipFill>
          <a:blip r:embed="rId1"/>
          <a:stretch/>
        </p:blipFill>
        <p:spPr>
          <a:xfrm>
            <a:off x="219240" y="1243080"/>
            <a:ext cx="8705520" cy="4371840"/>
          </a:xfrm>
          <a:prstGeom prst="rect">
            <a:avLst/>
          </a:prstGeom>
          <a:ln w="0">
            <a:noFill/>
          </a:ln>
        </p:spPr>
      </p:pic>
      <p:pic>
        <p:nvPicPr>
          <p:cNvPr id="1111" name="Picture 1" descr=""/>
          <p:cNvPicPr/>
          <p:nvPr/>
        </p:nvPicPr>
        <p:blipFill>
          <a:blip r:embed="rId2"/>
          <a:stretch/>
        </p:blipFill>
        <p:spPr>
          <a:xfrm>
            <a:off x="611280" y="2997360"/>
            <a:ext cx="50472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2" name="图片 1" descr=""/>
          <p:cNvPicPr/>
          <p:nvPr/>
        </p:nvPicPr>
        <p:blipFill>
          <a:blip r:embed="rId1"/>
          <a:stretch/>
        </p:blipFill>
        <p:spPr>
          <a:xfrm>
            <a:off x="147600" y="814320"/>
            <a:ext cx="8628120" cy="2162160"/>
          </a:xfrm>
          <a:prstGeom prst="rect">
            <a:avLst/>
          </a:prstGeom>
          <a:ln w="0">
            <a:noFill/>
          </a:ln>
        </p:spPr>
      </p:pic>
      <p:pic>
        <p:nvPicPr>
          <p:cNvPr id="1113" name="图片 2" descr=""/>
          <p:cNvPicPr/>
          <p:nvPr/>
        </p:nvPicPr>
        <p:blipFill>
          <a:blip r:embed="rId2"/>
          <a:stretch/>
        </p:blipFill>
        <p:spPr>
          <a:xfrm>
            <a:off x="368280" y="2976480"/>
            <a:ext cx="8704440" cy="3667320"/>
          </a:xfrm>
          <a:prstGeom prst="rect">
            <a:avLst/>
          </a:prstGeom>
          <a:ln w="0">
            <a:noFill/>
          </a:ln>
        </p:spPr>
      </p:pic>
      <p:pic>
        <p:nvPicPr>
          <p:cNvPr id="1114" name="Picture 1" descr=""/>
          <p:cNvPicPr/>
          <p:nvPr/>
        </p:nvPicPr>
        <p:blipFill>
          <a:blip r:embed="rId3"/>
          <a:stretch/>
        </p:blipFill>
        <p:spPr>
          <a:xfrm>
            <a:off x="468360" y="907920"/>
            <a:ext cx="504720" cy="408240"/>
          </a:xfrm>
          <a:prstGeom prst="rect">
            <a:avLst/>
          </a:prstGeom>
          <a:ln w="0">
            <a:noFill/>
          </a:ln>
        </p:spPr>
      </p:pic>
      <p:pic>
        <p:nvPicPr>
          <p:cNvPr id="1115" name="Picture 1" descr=""/>
          <p:cNvPicPr/>
          <p:nvPr/>
        </p:nvPicPr>
        <p:blipFill>
          <a:blip r:embed="rId4"/>
          <a:stretch/>
        </p:blipFill>
        <p:spPr>
          <a:xfrm>
            <a:off x="755640" y="4005360"/>
            <a:ext cx="50472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" dur="500"/>
                                        <p:tgtEl>
                                          <p:spTgt spid="1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" dur="500"/>
                                        <p:tgtEl>
                                          <p:spTgt spid="1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6" name="图片 1" descr=""/>
          <p:cNvPicPr/>
          <p:nvPr/>
        </p:nvPicPr>
        <p:blipFill>
          <a:blip r:embed="rId1"/>
          <a:stretch/>
        </p:blipFill>
        <p:spPr>
          <a:xfrm>
            <a:off x="157320" y="762120"/>
            <a:ext cx="8827920" cy="5333760"/>
          </a:xfrm>
          <a:prstGeom prst="rect">
            <a:avLst/>
          </a:prstGeom>
          <a:ln w="0">
            <a:noFill/>
          </a:ln>
        </p:spPr>
      </p:pic>
      <p:pic>
        <p:nvPicPr>
          <p:cNvPr id="1117" name="Picture 1" descr=""/>
          <p:cNvPicPr/>
          <p:nvPr/>
        </p:nvPicPr>
        <p:blipFill>
          <a:blip r:embed="rId2"/>
          <a:stretch/>
        </p:blipFill>
        <p:spPr>
          <a:xfrm>
            <a:off x="539640" y="765000"/>
            <a:ext cx="505080" cy="408240"/>
          </a:xfrm>
          <a:prstGeom prst="rect">
            <a:avLst/>
          </a:prstGeom>
          <a:ln w="0">
            <a:noFill/>
          </a:ln>
        </p:spPr>
      </p:pic>
      <p:pic>
        <p:nvPicPr>
          <p:cNvPr id="1118" name="Picture 1" descr=""/>
          <p:cNvPicPr/>
          <p:nvPr/>
        </p:nvPicPr>
        <p:blipFill>
          <a:blip r:embed="rId3"/>
          <a:stretch/>
        </p:blipFill>
        <p:spPr>
          <a:xfrm>
            <a:off x="539640" y="3500280"/>
            <a:ext cx="505080" cy="4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" dur="500"/>
                                        <p:tgtEl>
                                          <p:spTgt spid="1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" dur="500"/>
                                        <p:tgtEl>
                                          <p:spTgt spid="1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9" name="图片 1" descr=""/>
          <p:cNvPicPr/>
          <p:nvPr/>
        </p:nvPicPr>
        <p:blipFill>
          <a:blip r:embed="rId1"/>
          <a:stretch/>
        </p:blipFill>
        <p:spPr>
          <a:xfrm>
            <a:off x="171360" y="887400"/>
            <a:ext cx="8801280" cy="5427720"/>
          </a:xfrm>
          <a:prstGeom prst="rect">
            <a:avLst/>
          </a:prstGeom>
          <a:ln w="0">
            <a:noFill/>
          </a:ln>
        </p:spPr>
      </p:pic>
      <p:pic>
        <p:nvPicPr>
          <p:cNvPr id="1120" name="Picture 1" descr=""/>
          <p:cNvPicPr/>
          <p:nvPr/>
        </p:nvPicPr>
        <p:blipFill>
          <a:blip r:embed="rId2"/>
          <a:stretch/>
        </p:blipFill>
        <p:spPr>
          <a:xfrm>
            <a:off x="1979640" y="2017800"/>
            <a:ext cx="2808360" cy="407880"/>
          </a:xfrm>
          <a:prstGeom prst="rect">
            <a:avLst/>
          </a:prstGeom>
          <a:ln w="0">
            <a:noFill/>
          </a:ln>
        </p:spPr>
      </p:pic>
      <p:pic>
        <p:nvPicPr>
          <p:cNvPr id="1121" name="Picture 1" descr=""/>
          <p:cNvPicPr/>
          <p:nvPr/>
        </p:nvPicPr>
        <p:blipFill>
          <a:blip r:embed="rId3"/>
          <a:stretch/>
        </p:blipFill>
        <p:spPr>
          <a:xfrm>
            <a:off x="1042920" y="3068640"/>
            <a:ext cx="865080" cy="407880"/>
          </a:xfrm>
          <a:prstGeom prst="rect">
            <a:avLst/>
          </a:prstGeom>
          <a:ln w="0">
            <a:noFill/>
          </a:ln>
        </p:spPr>
      </p:pic>
      <p:pic>
        <p:nvPicPr>
          <p:cNvPr id="1122" name="Picture 1" descr=""/>
          <p:cNvPicPr/>
          <p:nvPr/>
        </p:nvPicPr>
        <p:blipFill>
          <a:blip r:embed="rId4"/>
          <a:stretch/>
        </p:blipFill>
        <p:spPr>
          <a:xfrm>
            <a:off x="3059280" y="3097080"/>
            <a:ext cx="865080" cy="408240"/>
          </a:xfrm>
          <a:prstGeom prst="rect">
            <a:avLst/>
          </a:prstGeom>
          <a:ln w="0">
            <a:noFill/>
          </a:ln>
        </p:spPr>
      </p:pic>
      <p:pic>
        <p:nvPicPr>
          <p:cNvPr id="1123" name="Picture 1" descr=""/>
          <p:cNvPicPr/>
          <p:nvPr/>
        </p:nvPicPr>
        <p:blipFill>
          <a:blip r:embed="rId5"/>
          <a:stretch/>
        </p:blipFill>
        <p:spPr>
          <a:xfrm>
            <a:off x="1908000" y="4724280"/>
            <a:ext cx="865440" cy="408240"/>
          </a:xfrm>
          <a:prstGeom prst="rect">
            <a:avLst/>
          </a:prstGeom>
          <a:ln w="0">
            <a:noFill/>
          </a:ln>
        </p:spPr>
      </p:pic>
      <p:pic>
        <p:nvPicPr>
          <p:cNvPr id="1124" name="Picture 1" descr=""/>
          <p:cNvPicPr/>
          <p:nvPr/>
        </p:nvPicPr>
        <p:blipFill>
          <a:blip r:embed="rId6"/>
          <a:stretch/>
        </p:blipFill>
        <p:spPr>
          <a:xfrm>
            <a:off x="4356000" y="4724280"/>
            <a:ext cx="865440" cy="408240"/>
          </a:xfrm>
          <a:prstGeom prst="rect">
            <a:avLst/>
          </a:prstGeom>
          <a:ln w="0">
            <a:noFill/>
          </a:ln>
        </p:spPr>
      </p:pic>
      <p:pic>
        <p:nvPicPr>
          <p:cNvPr id="1125" name="Picture 1" descr=""/>
          <p:cNvPicPr/>
          <p:nvPr/>
        </p:nvPicPr>
        <p:blipFill>
          <a:blip r:embed="rId7"/>
          <a:stretch/>
        </p:blipFill>
        <p:spPr>
          <a:xfrm>
            <a:off x="900000" y="5805360"/>
            <a:ext cx="5256360" cy="4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7" dur="500"/>
                                        <p:tgtEl>
                                          <p:spTgt spid="1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2" dur="500"/>
                                        <p:tgtEl>
                                          <p:spTgt spid="1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7" dur="500"/>
                                        <p:tgtEl>
                                          <p:spTgt spid="1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2" dur="500"/>
                                        <p:tgtEl>
                                          <p:spTgt spid="1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7" dur="500"/>
                                        <p:tgtEl>
                                          <p:spTgt spid="1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2" dur="500"/>
                                        <p:tgtEl>
                                          <p:spTgt spid="1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6" name="图片 1" descr=""/>
          <p:cNvPicPr/>
          <p:nvPr/>
        </p:nvPicPr>
        <p:blipFill>
          <a:blip r:embed="rId1"/>
          <a:stretch/>
        </p:blipFill>
        <p:spPr>
          <a:xfrm>
            <a:off x="228600" y="2438280"/>
            <a:ext cx="8686800" cy="1981440"/>
          </a:xfrm>
          <a:prstGeom prst="rect">
            <a:avLst/>
          </a:prstGeom>
          <a:ln w="0">
            <a:noFill/>
          </a:ln>
        </p:spPr>
      </p:pic>
      <p:pic>
        <p:nvPicPr>
          <p:cNvPr id="1127" name="Picture 1" descr=""/>
          <p:cNvPicPr/>
          <p:nvPr/>
        </p:nvPicPr>
        <p:blipFill>
          <a:blip r:embed="rId2"/>
          <a:stretch/>
        </p:blipFill>
        <p:spPr>
          <a:xfrm>
            <a:off x="2081160" y="3746520"/>
            <a:ext cx="681192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9" dur="5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加冕成王</cp:lastModifiedBy>
  <dcterms:modified xsi:type="dcterms:W3CDTF">2020-07-17T02:43:19Z</dcterms:modified>
  <cp:revision>2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828</vt:lpwstr>
  </property>
</Properties>
</file>